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88C-DA23-4776-87AE-4DD6B97E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74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2E4-B259-405C-B3B7-4638D73A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30E-6B47-48D8-84AE-F95A0152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57F-9D06-4BB3-B912-7C92956D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E370-81E7-4C04-9EA9-2AD29D62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E6E4-4DA1-413E-A25A-0904F8DF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6C75-3EB6-4B9E-BED5-BC092536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A78A-14D6-432F-9BA1-892EBB50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014F-843C-45C2-BB43-40258F25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2492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B56D-5B15-4D91-8A7D-8649635A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B129-ABC5-47FC-BC95-360AD9EF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A69-B828-4993-9761-DCC5C85A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CA8A-90D5-4B4E-8CAE-2A92BD1A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4304-057E-479E-B40B-35BF3BB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274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53AE-3DED-4DB3-8A53-2535CA37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09B4-E941-420C-B232-91FD9C7D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1126-E78B-4C32-9FC9-6DDB1088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0E6-EDE1-497A-A30C-92E1E985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C5A-0396-4E5D-9E8A-EDF94424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EB3-B542-4CBC-82B7-A702B1F1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22492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91A-B256-45E3-8DE9-B6833E0D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ADA-957A-47DD-9156-914DCA86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B60-D5F9-4D1C-A161-D2F80B13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D03D-82D9-4278-A61C-92B1B1A6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24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CEB6F-5DE6-4086-8052-A269F40E57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767720" cy="18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3AC9C-F1EC-4D7D-BE02-39A6226F4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162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ussia toda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: Marcus Johnson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t F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mmunism to a Free Enterprise Syste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 communism, the govern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led the economy of Russia. Government officials decided how much of something farmers should gro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ll of communism had turned Russia’s economy upside dow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ussian government adopted a market economy or free enterprise syste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648320" y="2467080"/>
            <a:ext cx="4038480" cy="3141720"/>
            <a:chOff x="4648320" y="2467080"/>
            <a:chExt cx="4038480" cy="31417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4648320" y="2467080"/>
              <a:ext cx="403848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48320" y="2467080"/>
              <a:ext cx="4038480" cy="31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pros and cons of government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body had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had no freedom on what job they d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vernment had too much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free enterprise  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2796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People started and ran businesses with little or no government interrup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2796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They may become unemploy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0080" y="365040"/>
            <a:ext cx="82263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People of Russ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Russia is one of the most populous countries in the world, with 146.5 million peo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There are many different ethnic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About 75% of the people in Russia live in c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The people are po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0080" y="365040"/>
            <a:ext cx="82263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nvironmental 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uring communism times, Russia was very pollu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ussia had nuclear energy which didn't belch dirty smoke, but had dangerous by- produ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ir pollution has caused people to suffer from cancer and diseases of the lungs. Life expectancy has falle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263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olitical Challen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64880"/>
            <a:ext cx="822636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1200">
              <a:spcBef>
                <a:spcPts val="799"/>
              </a:spcBef>
              <a:buClr>
                <a:srgbClr val="008080"/>
              </a:buClr>
              <a:buSzPct val="71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ahoma"/>
              </a:rPr>
              <a:t>Today Russia is a democracy and a federal republ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1200">
              <a:spcBef>
                <a:spcPts val="799"/>
              </a:spcBef>
              <a:buClr>
                <a:srgbClr val="008080"/>
              </a:buClr>
              <a:buSzPct val="71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ahoma"/>
              </a:rPr>
              <a:t>In the past, Russian leaders did what they wanted to. In the new system, they must learn to follow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1200">
              <a:spcBef>
                <a:spcPts val="799"/>
              </a:spcBef>
              <a:buClr>
                <a:srgbClr val="008080"/>
              </a:buClr>
              <a:buSzPct val="71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ahoma"/>
              </a:rPr>
              <a:t>Past governments also punished people who criticized their decisions. Now officials have to learn to accept disagreements over government polic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82263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07Z</dcterms:created>
  <dc:creator> </dc:creator>
  <dc:description/>
  <dc:language>en-US</dc:language>
  <cp:lastModifiedBy> </cp:lastModifiedBy>
  <dcterms:modified xsi:type="dcterms:W3CDTF">2010-12-15T15:27:11Z</dcterms:modified>
  <cp:revision>3</cp:revision>
  <dc:subject/>
  <dc:title>Russia to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